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ftr" idx="2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 type="sldNum" idx="2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5354-0F86-4872-BB0B-1D910D8CA5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9A24-8A87-46D6-BA38-A4B947484FF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1D81-5081-491B-9C34-AA5D5517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D7A9-A0CE-4A40-B462-89B80EBD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2153-5B53-4488-B3FC-B9E366832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E918-DC83-42A6-9F22-097481A49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745F-ED2C-4073-8399-E7C5F9D2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36B0-059A-430A-B76C-175454E0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CD1E-AC48-4B13-845F-3BE16E60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9216-1073-44BB-A55C-127512FE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7E51-AC29-47F1-A342-197D0541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E738-19FA-402B-BAFF-74268C39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D7A1-7696-4234-820F-730F2CE7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3B8B-1214-4340-8493-3DF9C4DB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71D7-7D45-4837-ABE9-513426A1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61E4-AD77-43BA-8B92-F6E8777F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AB1B-629E-4F3B-BED2-E48FE4C5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A98E-CB01-4387-B2C3-9AE129FD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A3F5-A9BD-47CF-85E8-E1FCB77D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8E110-05EF-4980-B6B7-F4433A8C9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49DA3-5BF1-484B-8475-22558268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CA7F9-C63E-4EE2-9F03-1BF2A61C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D0A79-3C6C-433A-BDD9-7DCF12C0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A121F-1016-494C-85BD-6B3CF073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3F90-9B0B-4402-B0F0-909AFB0E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B2111-7C4F-4D6A-B5EC-A6620DC4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7CDC1-7789-4DDD-AE0B-A72FBC01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D3DE3-454E-41F2-A4AE-E1737A95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E16DE-6C07-46FF-A4B0-0DC81C64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181D8-1F6D-477A-B43C-9221D229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4F8F3-BB75-4C3A-BC04-D67C44BA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DEA4E-52A3-4B63-9C06-3FDBFF42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54F6E-4D95-46B9-ACA4-E24966F1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660F3-B0F8-4F5E-9854-84E97B4F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F3B53-65E1-484A-8AB6-48B30D93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0F5F-E428-486D-93DC-1101E2DE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08EBC-9B86-45C3-9A64-A5F9F923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8774E-6D3D-4A95-9952-73F9DAFC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8966F-2663-47A9-B47B-F0420B65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96DD4-6F3A-4896-A059-8230DABD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9B1F4-1297-4362-B411-692634B3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2CA67-4316-4774-99C2-CBF4CA6D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5CC21-65D8-4E36-B08D-6ED16209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D8360-C228-42F0-8169-D8A26D8F4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4F0BB-F63A-478C-964C-42A22730C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1AA79-FF35-4DAD-8DD3-698AACDA2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5206-0AB6-4095-B5DE-1BCBA193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73DD6-7962-4D70-BCFA-CBE984DB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DDA2F-B2A3-44C0-9EB8-D5044AF4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43685-E2A8-4644-BA0D-3D4CA9AB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E707E-F840-421A-B085-EF3FE9E0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AC1BE-24FD-4865-9CFE-86D54487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AD1A7-29DC-4C2C-BF7D-A2B53C0A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70207-BF6D-4386-9D52-7D6BF86F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A65BE-23F9-4B0E-A087-1D3E473F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798B9-4E5E-478A-B7AE-5195D483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B2835-B077-4E5F-90F3-30F44148A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AED4-A325-4E38-9833-F9E6B0F4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1373A-2397-4331-8381-0D14AC1A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6300B-ACDF-48EB-B3CC-33BDC73E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12522-77BE-43D8-A931-D4EC19C2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B367E-222A-4F0F-AB00-12953FA9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802DC-0EDC-40B6-9CB1-86F57B49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816C5-93F0-4A37-83A3-116D4577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43EE4-B07A-4709-991C-3A5CAD11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44ACA-AE00-4889-AADD-166CC968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C68AF-2E85-4391-A671-9CB9A8BC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5E5B8-A789-4C06-AB43-B88438C6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3E55-F5DB-4BB1-ACCF-EA270275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94A09-BD66-4238-948C-2AB5394A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507E7-F554-4163-8E0A-CBEA1024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F92C0-5DB7-40EF-9D93-38158957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EE05-0EED-499A-9246-063FAAA7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5315-6137-4452-9624-92916B80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1A62-FA72-4C1C-9FEA-7A8BE1639A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7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9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0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1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2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3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4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4F14-C209-4F12-9F44-F5CB18B722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64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5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6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8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9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0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1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2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3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4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5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6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7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8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BA64-2E8E-4BBB-8671-EB499A700EB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21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222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23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4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5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6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7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8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9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0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1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2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3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234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35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6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7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8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9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0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1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2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3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4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5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6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7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8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9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0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1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2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253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54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5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6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7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8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9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0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1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2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3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4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5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6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7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8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9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0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271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72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3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4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5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6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7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8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grpSp>
            <p:nvGrpSpPr>
              <p:cNvPr id="279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80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81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82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283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</p:grp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FC07-5CBA-4E67-96CB-25BF804C66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32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7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8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9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30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31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32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33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34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35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36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37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38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39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0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9BBF-48EC-4DA5-959F-2618EC8D68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83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84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85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86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87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88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89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0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1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2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3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4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5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6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7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B44B-F46C-4CF3-B83C-6DA34CF92471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964720" cy="32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ПРОЕКТ</a:t>
            </a:r>
            <a:r>
              <a:rPr b="1" i="1" lang="ru-RU" sz="4800" spc="-1" strike="noStrike">
                <a:solidFill>
                  <a:srgbClr val="009999"/>
                </a:solidFill>
                <a:latin typeface="Arial"/>
              </a:rPr>
              <a:t>: </a:t>
            </a:r>
            <a:br>
              <a:rPr sz="4800"/>
            </a:br>
            <a:r>
              <a:rPr b="1" i="1" lang="ru-RU" sz="4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Я</a:t>
            </a:r>
            <a:r>
              <a:rPr b="1" i="1" lang="ru-RU" sz="5400" spc="-1" strike="noStrike">
                <a:solidFill>
                  <a:srgbClr val="ccecff"/>
                </a:solidFill>
                <a:latin typeface="Arial"/>
              </a:rPr>
              <a:t> познаю Вселенную»</a:t>
            </a:r>
            <a:r>
              <a:rPr b="1" i="1" lang="ru-RU" sz="48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47" name="Picture 19" descr="image021"/>
          <p:cNvPicPr/>
          <p:nvPr/>
        </p:nvPicPr>
        <p:blipFill>
          <a:blip r:embed="rId1"/>
          <a:stretch/>
        </p:blipFill>
        <p:spPr>
          <a:xfrm>
            <a:off x="324000" y="260280"/>
            <a:ext cx="1257120" cy="1193760"/>
          </a:xfrm>
          <a:prstGeom prst="rect">
            <a:avLst/>
          </a:prstGeom>
          <a:ln w="0">
            <a:noFill/>
          </a:ln>
        </p:spPr>
      </p:pic>
      <p:pic>
        <p:nvPicPr>
          <p:cNvPr id="448" name="33.MID" descr=""/>
          <p:cNvPicPr/>
          <p:nvPr/>
        </p:nvPicPr>
        <p:blipFill>
          <a:blip r:embed="rId2"/>
          <a:stretch/>
        </p:blipFill>
        <p:spPr>
          <a:xfrm>
            <a:off x="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F31A-23E1-4F56-98B8-250CE92AE66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облемные вопросы по проекту «Одиноки ли мы во Вселенной?»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26600" indent="-42660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уществует ли планеты, которые похоже на Землю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6600" indent="-42660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нужно для возникновения жизни подобно земно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6600" indent="-42660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гут ли быть другие формы жизн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6600" indent="-42660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ть ли параллельные мир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6600" indent="-42660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лает ли человечество познакомиться с братьями по Разум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F744-50FC-4863-8B59-416AF6B2F0A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9152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нный проект охватывает темы по астроном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по группам создает ситуацию успеш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ктическая работа позволяет учащимся более глубоко разобраться по данной те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чественные проблемные вопросы развивают  интерес к предме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Picture 6" descr="image021"/>
          <p:cNvPicPr/>
          <p:nvPr/>
        </p:nvPicPr>
        <p:blipFill>
          <a:blip r:embed="rId1"/>
          <a:stretch/>
        </p:blipFill>
        <p:spPr>
          <a:xfrm>
            <a:off x="0" y="0"/>
            <a:ext cx="1257480" cy="1193760"/>
          </a:xfrm>
          <a:prstGeom prst="rect">
            <a:avLst/>
          </a:prstGeom>
          <a:ln w="0">
            <a:noFill/>
          </a:ln>
        </p:spPr>
      </p:pic>
      <p:sp>
        <p:nvSpPr>
          <p:cNvPr id="452" name="WordArt 10"/>
          <p:cNvSpPr txBox="1"/>
          <p:nvPr/>
        </p:nvSpPr>
        <p:spPr>
          <a:xfrm>
            <a:off x="1763640" y="620640"/>
            <a:ext cx="5113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ННОТАЦИ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149A-20B4-49CF-A021-C371B8A385A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201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     </a:t>
            </a: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Цели и задачи прое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Дидактические це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Использование самостоятельной (индивидуальной. парной, групповой) деятельности учащихся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рмирование навыков работы в команде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уктурирование содержательной части проекта (с указанием поэтапных результатов и распределение ролей)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Методические зада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 научить обрабатывать и обобщать полученную информаци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  научить применять новые компьютерные технолог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Picture 6" descr="image021"/>
          <p:cNvPicPr/>
          <p:nvPr/>
        </p:nvPicPr>
        <p:blipFill>
          <a:blip r:embed="rId1"/>
          <a:stretch/>
        </p:blipFill>
        <p:spPr>
          <a:xfrm>
            <a:off x="0" y="0"/>
            <a:ext cx="1257480" cy="119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70B2-FF74-4526-846C-2ABCBB68DD4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Text Box 2"/>
          <p:cNvSpPr/>
          <p:nvPr/>
        </p:nvSpPr>
        <p:spPr>
          <a:xfrm>
            <a:off x="1335960" y="0"/>
            <a:ext cx="612432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99ff66"/>
                </a:solidFill>
                <a:uFillTx/>
                <a:latin typeface="Times New Roman"/>
              </a:rPr>
              <a:t>УЧАСТНИКИ ПРОЕКТА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ff66"/>
                </a:solidFill>
                <a:latin typeface="Times New Roman"/>
              </a:rPr>
              <a:t>ученики 8 и 11 классов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468360" y="1628640"/>
            <a:ext cx="7991280" cy="26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ВРЕМЯ ПРОВЕДЕНИЯ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акультивный курс «Астрофизика» в 8 классе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1класс уроки астрономии (1час в неделю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971640" y="4508640"/>
            <a:ext cx="6121440" cy="18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ЕСТО ПРОВЕДЕНИЯ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бинет физи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пьютерный класс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61" name="Picture 7" descr="image021"/>
          <p:cNvPicPr/>
          <p:nvPr/>
        </p:nvPicPr>
        <p:blipFill>
          <a:blip r:embed="rId1"/>
          <a:stretch/>
        </p:blipFill>
        <p:spPr>
          <a:xfrm>
            <a:off x="7093080" y="5373720"/>
            <a:ext cx="1257120" cy="119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ADCA-D073-4925-BBB5-C6C20FE0493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тапы проекта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892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суждение проблем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движение гипотез решения выявленной проблемы (мозговой штурм). Обсуждение и обоснование из гипоте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суждение методов проверки принятых гипотез в малых группах, обсуждение возможных источников информации для проверки выдвинутой гипотезы. Обсуждение оформления результа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суждение и распределение поручений в групп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а в группах над поиском фактов, аргументов, подтверждающих гипотез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своих компьютерных презентац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щита проектов каждой из груп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5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5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50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5000" fill="hold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5000" fill="hold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500"/>
                            </p:stCondLst>
                            <p:childTnLst>
                              <p:par>
                                <p:cTn id="132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5000" fill="hold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5000" fill="hold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3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5000" fill="hold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5000" fill="hold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500"/>
                            </p:stCondLst>
                            <p:childTnLst>
                              <p:par>
                                <p:cTn id="142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5000" fill="hold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5000" fill="hold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75500"/>
                            </p:stCondLst>
                            <p:childTnLst>
                              <p:par>
                                <p:cTn id="14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5000" fill="hold"/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5000" fill="hold"/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28DE-DFB4-4D46-9EB8-D11628A1E18B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Технология  информационного проекта по астрономии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труктура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Цель проекта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Источники информации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пособы обработки информаци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(анализ, обобщение, сопоставление фактов, выводы)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езультат информационного поиска (реферат, доклад, статья, аннотация прочее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Электронная презентация, публикация и др.);</a:t>
            </a:r>
            <a:br>
              <a:rPr sz="2800"/>
            </a:b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4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35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4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85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6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335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725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7A5A-171F-4510-B0D9-BEF4CE12DF80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Оценочная таблица проект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Критерии оценивания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(плохо)(слабо)(хорошо)(отлично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Цели проект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одержание проект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ригинальност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бота в групп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ценивание успеваемости учащихс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рганизация применения проекта в школ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1C9D-2059-42C1-AB3D-DC2A0683699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сновополагающий вопр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73" name="Picture 4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7"/>
          <p:cNvSpPr/>
          <p:nvPr/>
        </p:nvSpPr>
        <p:spPr>
          <a:xfrm>
            <a:off x="611280" y="1628640"/>
            <a:ext cx="80168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Garamond"/>
              </a:rPr>
              <a:t>Одиноки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Garamond"/>
              </a:rPr>
              <a:t>ли мы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Garamond"/>
              </a:rPr>
              <a:t>во Вселенной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286A-39CE-4832-AE2F-2295FA4ECDC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76" name="Picture 7" descr="image021"/>
          <p:cNvPicPr/>
          <p:nvPr/>
        </p:nvPicPr>
        <p:blipFill>
          <a:blip r:embed="rId1"/>
          <a:stretch/>
        </p:blipFill>
        <p:spPr>
          <a:xfrm>
            <a:off x="3924360" y="5229360"/>
            <a:ext cx="1257120" cy="119376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12"/>
          <p:cNvSpPr/>
          <p:nvPr/>
        </p:nvSpPr>
        <p:spPr>
          <a:xfrm>
            <a:off x="395280" y="416880"/>
            <a:ext cx="8137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Garamond"/>
              </a:rPr>
              <a:t>"Когда срывают травинку,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ru-RU" sz="6600" spc="-1" strike="noStrike">
                <a:solidFill>
                  <a:srgbClr val="ffffff"/>
                </a:solidFill>
                <a:latin typeface="Garamond"/>
              </a:rPr>
              <a:t>вздрагивает вся Вселенная"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2T05:20:28Z</dcterms:created>
  <dc:creator>Vadim</dc:creator>
  <dc:description/>
  <dc:language>en-US</dc:language>
  <cp:lastModifiedBy>уч1</cp:lastModifiedBy>
  <dcterms:modified xsi:type="dcterms:W3CDTF">2009-03-04T10:22:12Z</dcterms:modified>
  <cp:revision>64</cp:revision>
  <dc:subject/>
  <dc:title>Обычное в необычном</dc:title>
</cp:coreProperties>
</file>