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349D-07EF-435F-A303-C3751557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E037-3A92-42E2-9D05-F68C31BF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D4CE-4980-496B-A29B-C2671393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4508-01EE-443C-8EA6-7D904376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77F3-0EBD-4E28-ACDB-59B4119F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8BE5-99D1-4EE4-A495-5F915CB1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2429-DBDC-4CB5-A45F-A39E4906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B168-2633-49CC-81D6-956CADE2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E96E-3BF6-4A13-B47B-B1D80A60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D724-9975-4253-A8CD-66EF14D7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13BD-39C5-4538-80FC-4F0684C7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281E-BE80-48B7-9B21-86639709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497E-F324-4A81-A4C7-E0336117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B0E1-2A67-4D91-9882-825460FF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59D0-7D19-4544-9351-96056744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6E74-3020-4C3A-8A63-EE8A0733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A2E6-3121-495B-983C-FC10C92E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0144-12D9-453E-9E6D-81FCF1E6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09346-BF44-4DAC-80DB-FF5D10EC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849B-3291-4417-8BE4-1316C525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EC2B-F8C2-4AE6-AA9E-B65821A8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EF94-4944-4C43-A2D1-D03AE758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1FF5-C6DF-4E10-92E0-8034B9CB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45B3-F6B2-4029-AD1D-2B9333B3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36F6-9013-4B4B-8F1B-6D8431CCBB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B718-4E85-45AF-AA6C-B422468D2C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ourmilab.ch.edu/hypermap/Vmap/top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58676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Рождение Земли и возникновение жизни на ней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3715920"/>
            <a:ext cx="876312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Цели и задачи нашего проекта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обрать литературу по теме: Рождение Земли и возникновение жизни на н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ить аннотированный список из разных библиотек: МОУСОШ №2, ГДК, «Родина», Детская библиотека, Центральная библиот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ать важность и целесообразность использования  научно-популярной литературы при изучении астрофиз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ождение Земли и возникновение жизни на ней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3628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ялко А.В. Наша планета Земля. М.:Наука,1983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ипотезы о рождении планетарной системы.  Книга в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УСОШ №2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игель Ф.Ю. Астрономия в её развитии. М.: Просвещение, 198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ипотеза О.Ю.Шмидта о происхождении Земли и пла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нформационный Бланк №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4358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ялко А.В. Наша планета Земля. М.:Наука,1983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потезы о рождении планетарной сист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48 год. Ж.Боффон – катастрофическое столкновение кометы с Солнцем. Возникновение Земли и других планет из «брызг» солнечного вещ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55 год. И Кант- из облака твердой пыли, частицы которой притягивались друг к другу (закон Всемирного тяготен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96 год. П. Лаплас- из раскаленной вращающейся  газовой туманности. Она остывала, сжималась, увеличивала скорость. Отделились газовые  кольца, сгустивщиеся в 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44 год. О.Ю. Шмидт- планеты сконденсировались из твердых холодных частиц, они никогда не были в огненно- жидком, раскаленном состоянии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нформационный Бланк №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игель Ф.Ю. Астрономия в её развитии. М.: Просвещение, 198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Гипотеза О.Ю.Шмидта о происхождении Земли и план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альнейшая эволюция Земли: образование твердого ядра и скопление радиоактивных вещест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зраст Земли – 4,5 млрд. л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нформационный Бланк №3 по теме: «Земля»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www.fourmilab.ch.edu/hypermap/Vmap/top.htm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карта Зем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smis.iki.rssi.ru/dataserv/rus_ms/data_s_r.html 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жие и архивные фотоснимки Земли из космо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ckm.iszf.irk.ru/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айт Центра космического мониторинга Института солнечно-земной физи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izmiran.rssi.ru/magnetism/mos_data.htm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текущая геомагнитная обстановка на Зем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izmiran.troitsk.ru/cosray/main.htm 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я об уровне космических лучей, поступающих на Земл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g.bos.ru/russia/timezone.html 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карта часовых поя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1</cp:lastModifiedBy>
  <dcterms:modified xsi:type="dcterms:W3CDTF">2009-03-04T10:20:39Z</dcterms:modified>
  <cp:revision>4</cp:revision>
  <dc:subject/>
  <dc:title>PowerPoint Presentation</dc:title>
</cp:coreProperties>
</file>