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5.jpeg" ContentType="image/jpeg"/>
  <Override PartName="/ppt/media/image11.jpeg" ContentType="image/jpeg"/>
  <Override PartName="/ppt/media/image4.gif" ContentType="image/gif"/>
  <Override PartName="/ppt/media/image19.jpeg" ContentType="image/jpeg"/>
  <Override PartName="/ppt/media/image1.gif" ContentType="image/gif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gif" ContentType="image/gif"/>
  <Override PartName="/ppt/media/image7.jpeg" ContentType="image/jpe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4323-59D3-4D65-A6BA-CD67702A0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5875-F39A-4A95-8B8B-64F37D8BFD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E4FD-B284-4F7A-BADB-D2B628E795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89DE-8E57-4E44-81B9-E208BB371A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FDAB-780E-40E2-8FED-BA0D9B6942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1B8B-BC5F-445B-BBCC-3E983D3562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2567-1AB4-4109-973D-5C4FD8D4F8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6237-3397-4697-B222-E39603E534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1113-5557-49F8-8376-2621602FED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4564-CAE3-403D-B642-72B90B8F79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7F2F-7FAF-4B89-B63F-4AD0009AB0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FF6D-7EFB-4BC3-9C61-07137A87B8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3705-69ED-479F-ACFB-BB1A6F3C72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767D-14F5-4FCD-969C-BC3FFAC16D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BD9C-EBE5-4B30-A7D0-20849EEEEC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F17A-5935-403E-A18E-2D809B7F11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A438-C5C3-4AEA-97EB-BEACE761D3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FF0D-0228-4B4F-9823-9B41CD7634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9DF-3019-4865-AC65-579F6315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ADE-8DB7-4D24-B7D3-110AFD04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95B-1F81-4771-9562-3D73EC88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2AE-3B25-4590-9874-B65E5E73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828B-B892-474B-BF0B-F9BE502C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9C86-5061-4A4E-B902-EB6CB22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8A76-6121-40CA-B633-2DD1949D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4707-CD12-4FCE-AFE5-F39B27A0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10C5-62D7-4081-840C-5A668859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CB27-2F63-46EE-95E2-96F50E91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871C-EA8D-4134-BA6E-F47B51C8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B63-2DE5-4E13-9968-9A01CF37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9DC8-F5B4-4EA0-9214-81E3E558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86C1-A912-42AE-9F4A-13736AC6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5419-6F59-455A-A0E9-2A7549F3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5F2A-B37D-4180-8B09-A12114CC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A954-B7D0-4ECE-96C0-66F84EA7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507-EB29-4800-9B42-13B4990A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3B5-6490-47BD-ACF8-FBD7906A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5AC-6712-4937-A471-EA113B4C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FB8-7006-4DBD-B188-0823D795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183-E2C0-4F1C-A1A2-2AEBEF97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E35-D7F2-48C1-96AA-95620F13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2DB-EC4F-40CE-B0B8-44612301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D7DB-E1F6-4031-9199-AD6115C95F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8A6E-25F8-4425-88B5-18E093078A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Импульс тел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42560" y="3500280"/>
            <a:ext cx="67611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он сохранения импуль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йства импульса. Реактивное движ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стория развития космонавти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1" name="Picture 5" descr="14"/>
          <p:cNvPicPr/>
          <p:nvPr/>
        </p:nvPicPr>
        <p:blipFill>
          <a:blip r:embed="rId1"/>
          <a:stretch/>
        </p:blipFill>
        <p:spPr>
          <a:xfrm>
            <a:off x="0" y="1341360"/>
            <a:ext cx="2928960" cy="3889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1227901237_2"/>
          <p:cNvPicPr/>
          <p:nvPr/>
        </p:nvPicPr>
        <p:blipFill>
          <a:blip r:embed="rId2"/>
          <a:stretch/>
        </p:blipFill>
        <p:spPr>
          <a:xfrm>
            <a:off x="3132000" y="1341360"/>
            <a:ext cx="2899080" cy="39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1220935459_31"/>
          <p:cNvPicPr/>
          <p:nvPr/>
        </p:nvPicPr>
        <p:blipFill>
          <a:blip r:embed="rId3"/>
          <a:stretch/>
        </p:blipFill>
        <p:spPr>
          <a:xfrm>
            <a:off x="6213600" y="1268280"/>
            <a:ext cx="2930400" cy="4032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ципы реактивного движения разработал К.Э. Циолковск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олёв С П – конструктор первых рак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Ю. Гагарин – стал первым в мире космонавтом. 12 апреля 196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витие космической техн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6" name="Picture 5" descr="satelliti1"/>
          <p:cNvPicPr/>
          <p:nvPr/>
        </p:nvPicPr>
        <p:blipFill>
          <a:blip r:embed="rId1"/>
          <a:stretch/>
        </p:blipFill>
        <p:spPr>
          <a:xfrm>
            <a:off x="324000" y="1557360"/>
            <a:ext cx="3209760" cy="4751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1234455163_ut0043616_420"/>
          <p:cNvPicPr/>
          <p:nvPr/>
        </p:nvPicPr>
        <p:blipFill>
          <a:blip r:embed="rId2"/>
          <a:stretch/>
        </p:blipFill>
        <p:spPr>
          <a:xfrm>
            <a:off x="4356000" y="3936960"/>
            <a:ext cx="4505400" cy="2921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545141"/>
          <p:cNvPicPr/>
          <p:nvPr/>
        </p:nvPicPr>
        <p:blipFill>
          <a:blip r:embed="rId3"/>
          <a:stretch/>
        </p:blipFill>
        <p:spPr>
          <a:xfrm>
            <a:off x="4356000" y="765000"/>
            <a:ext cx="451800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спользование космических технологи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0" name="Picture 5" descr="e1d68c24e5fb5d14a2"/>
          <p:cNvPicPr/>
          <p:nvPr/>
        </p:nvPicPr>
        <p:blipFill>
          <a:blip r:embed="rId1"/>
          <a:stretch/>
        </p:blipFill>
        <p:spPr>
          <a:xfrm>
            <a:off x="250920" y="1628640"/>
            <a:ext cx="273672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img_brain_306_1_2fa05e87bf320cbc866c1773e1c94796"/>
          <p:cNvPicPr/>
          <p:nvPr/>
        </p:nvPicPr>
        <p:blipFill>
          <a:blip r:embed="rId2"/>
          <a:stretch/>
        </p:blipFill>
        <p:spPr>
          <a:xfrm>
            <a:off x="3348000" y="1628640"/>
            <a:ext cx="3024360" cy="2011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5_4_6"/>
          <p:cNvPicPr/>
          <p:nvPr/>
        </p:nvPicPr>
        <p:blipFill>
          <a:blip r:embed="rId3"/>
          <a:stretch/>
        </p:blipFill>
        <p:spPr>
          <a:xfrm>
            <a:off x="6659640" y="907920"/>
            <a:ext cx="2289240" cy="3043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india_22"/>
          <p:cNvPicPr/>
          <p:nvPr/>
        </p:nvPicPr>
        <p:blipFill>
          <a:blip r:embed="rId4"/>
          <a:stretch/>
        </p:blipFill>
        <p:spPr>
          <a:xfrm>
            <a:off x="250920" y="4221000"/>
            <a:ext cx="3132000" cy="2049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g002"/>
          <p:cNvPicPr/>
          <p:nvPr/>
        </p:nvPicPr>
        <p:blipFill>
          <a:blip r:embed="rId5"/>
          <a:stretch/>
        </p:blipFill>
        <p:spPr>
          <a:xfrm>
            <a:off x="3564000" y="3984480"/>
            <a:ext cx="2873160" cy="2873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spacewalk_sts41b"/>
          <p:cNvPicPr/>
          <p:nvPr/>
        </p:nvPicPr>
        <p:blipFill>
          <a:blip r:embed="rId6"/>
          <a:stretch/>
        </p:blipFill>
        <p:spPr>
          <a:xfrm>
            <a:off x="6804000" y="4292640"/>
            <a:ext cx="20462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итерату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. В. Громо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«Физика 10»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ей космонавтик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museum.ru/M628#kribleOff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нциклопедия – космонавтика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osmoworld.ru/spaceencyclopedia/gagarin/index.shtml?index_g.html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урнал «Новости космонавтики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novosti-kosmonavtiki.ru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нтр подготовки космонавто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gctc.ru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bd13659_"/>
          <p:cNvPicPr/>
          <p:nvPr/>
        </p:nvPicPr>
        <p:blipFill>
          <a:blip r:embed="rId1"/>
          <a:stretch/>
        </p:blipFill>
        <p:spPr>
          <a:xfrm>
            <a:off x="8172360" y="476280"/>
            <a:ext cx="287964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bd13720_"/>
          <p:cNvPicPr/>
          <p:nvPr/>
        </p:nvPicPr>
        <p:blipFill>
          <a:blip r:embed="rId2"/>
          <a:stretch/>
        </p:blipFill>
        <p:spPr>
          <a:xfrm>
            <a:off x="-1620720" y="4005360"/>
            <a:ext cx="2681280" cy="241920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2"/>
          <p:cNvGrpSpPr/>
          <p:nvPr/>
        </p:nvGrpSpPr>
        <p:grpSpPr>
          <a:xfrm>
            <a:off x="0" y="2276640"/>
            <a:ext cx="9144000" cy="1152360"/>
            <a:chOff x="0" y="2276640"/>
            <a:chExt cx="9144000" cy="1152360"/>
          </a:xfrm>
        </p:grpSpPr>
        <p:sp>
          <p:nvSpPr>
            <p:cNvPr id="133" name="Rectangle 7"/>
            <p:cNvSpPr/>
            <p:nvPr/>
          </p:nvSpPr>
          <p:spPr>
            <a:xfrm>
              <a:off x="0" y="2276640"/>
              <a:ext cx="9144000" cy="11523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Любое движущееся тело обладает количеством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движения (импульсом).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=m</a:t>
              </a:r>
              <a:r>
                <a:rPr b="0" lang="el-GR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υ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[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г м/с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]. 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не Декар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>
              <a:off x="4284720" y="285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5003640" y="292428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Picture 13" descr="ag00318_"/>
          <p:cNvPicPr/>
          <p:nvPr/>
        </p:nvPicPr>
        <p:blipFill>
          <a:blip r:embed="rId3"/>
          <a:stretch/>
        </p:blipFill>
        <p:spPr>
          <a:xfrm>
            <a:off x="7451640" y="5400720"/>
            <a:ext cx="14670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21965E-006 L -1.14965 -0.01225 E">
                                      <p:cBhvr>
                                        <p:cTn id="6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04046E-006 L 1.21562 0.01248 E">
                                      <p:cBhvr>
                                        <p:cTn id="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0023 C -0.01042 -0.11168 -0.02084 -0.22382 -0.1 -0.28509 C -0.17917 -0.3459 -0.39549 -0.28832 -0.47466 -0.36555 C -0.55382 -0.44254 -0.50643 -0.65387 -0.57466 -0.74775 C -0.64289 -0.84185 -0.76355 -0.88578 -0.88421 -0.92971 E">
                                      <p:cBhvr>
                                        <p:cTn id="10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0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войства импульс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на тело не действуют другие тела, или действия других тел взаимно компенсируются, то импульс тела не изменяет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Ньютон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5076360" y="3500280"/>
            <a:ext cx="3745440" cy="2522520"/>
            <a:chOff x="5076360" y="3500280"/>
            <a:chExt cx="3745440" cy="2522520"/>
          </a:xfrm>
        </p:grpSpPr>
        <p:pic>
          <p:nvPicPr>
            <p:cNvPr id="141" name="Picture 16" descr="bd13771_"/>
            <p:cNvPicPr/>
            <p:nvPr/>
          </p:nvPicPr>
          <p:blipFill>
            <a:blip r:embed="rId1"/>
            <a:stretch/>
          </p:blipFill>
          <p:spPr>
            <a:xfrm>
              <a:off x="5724720" y="3500280"/>
              <a:ext cx="1947600" cy="19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Line 7"/>
            <p:cNvSpPr/>
            <p:nvPr/>
          </p:nvSpPr>
          <p:spPr>
            <a:xfrm flipH="1">
              <a:off x="5076360" y="4870440"/>
              <a:ext cx="172908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8"/>
            <p:cNvSpPr/>
            <p:nvPr/>
          </p:nvSpPr>
          <p:spPr>
            <a:xfrm>
              <a:off x="6805800" y="4870440"/>
              <a:ext cx="1726920" cy="0"/>
            </a:xfrm>
            <a:prstGeom prst="line">
              <a:avLst/>
            </a:prstGeom>
            <a:ln w="5724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>
              <a:off x="6805800" y="4870440"/>
              <a:ext cx="0" cy="792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10"/>
            <p:cNvSpPr/>
            <p:nvPr/>
          </p:nvSpPr>
          <p:spPr>
            <a:xfrm flipV="1">
              <a:off x="6805800" y="4005000"/>
              <a:ext cx="0" cy="865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>
              <a:off x="5148360" y="4149720"/>
              <a:ext cx="792000" cy="5047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тяги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8101080" y="4222800"/>
              <a:ext cx="720720" cy="503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тр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21440" y="5589360"/>
              <a:ext cx="719280" cy="4334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тяж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6948720" y="3500280"/>
              <a:ext cx="504720" cy="4320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9711E-006 L -0.84635 0.00509 E">
                                      <p:cBhvr>
                                        <p:cTn id="24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554364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войства импульс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При взаимодействии тела с другим телом, его импульс может полностью или частично передаваться другому тел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0" y="28526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4572000" y="2349360"/>
            <a:ext cx="574560" cy="5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0" y="2349360"/>
            <a:ext cx="574560" cy="5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10"/>
          <p:cNvSpPr/>
          <p:nvPr/>
        </p:nvSpPr>
        <p:spPr>
          <a:xfrm>
            <a:off x="4427640" y="3789360"/>
            <a:ext cx="865080" cy="79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0" y="3573360"/>
            <a:ext cx="1042920" cy="100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3419640" y="3573360"/>
            <a:ext cx="1042920" cy="100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=ma,  a=(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/t,  F=m(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/t,  Ft=(m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=(P-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=∆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закон Ньюто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пульс силы равен изменению импульса те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62428E-007 L 0.43716 -0.00532 E">
                                      <p:cBhvr>
                                        <p:cTn id="42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62428E-007 L 0.5198 -0.00532 E">
                                      <p:cBhvr>
                                        <p:cTn id="45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19653E-006 L 0.37223 0.00023 E">
                                      <p:cBhvr>
                                        <p:cTn id="61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73988E-006 L 0.55139 -0.00508 E">
                                      <p:cBhvr>
                                        <p:cTn id="6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00023 L 0.6658 0.00046 E">
                                      <p:cBhvr>
                                        <p:cTn id="69" dur="5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войства импульс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Импульс замкнутой системы тел  есть величина постоянная (Закон сохранения импульса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Group 10"/>
          <p:cNvGrpSpPr/>
          <p:nvPr/>
        </p:nvGrpSpPr>
        <p:grpSpPr>
          <a:xfrm>
            <a:off x="2771640" y="1989000"/>
            <a:ext cx="1800000" cy="1152720"/>
            <a:chOff x="2771640" y="1989000"/>
            <a:chExt cx="1800000" cy="1152720"/>
          </a:xfrm>
        </p:grpSpPr>
        <p:grpSp>
          <p:nvGrpSpPr>
            <p:cNvPr id="164" name="Group 8"/>
            <p:cNvGrpSpPr/>
            <p:nvPr/>
          </p:nvGrpSpPr>
          <p:grpSpPr>
            <a:xfrm>
              <a:off x="2771640" y="2421000"/>
              <a:ext cx="1512720" cy="720720"/>
              <a:chOff x="2771640" y="2421000"/>
              <a:chExt cx="1512720" cy="720720"/>
            </a:xfrm>
          </p:grpSpPr>
          <p:sp>
            <p:nvSpPr>
              <p:cNvPr id="165" name="Oval 5"/>
              <p:cNvSpPr/>
              <p:nvPr/>
            </p:nvSpPr>
            <p:spPr>
              <a:xfrm>
                <a:off x="2987640" y="2781360"/>
                <a:ext cx="433080" cy="3603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Oval 6"/>
              <p:cNvSpPr/>
              <p:nvPr/>
            </p:nvSpPr>
            <p:spPr>
              <a:xfrm>
                <a:off x="3708360" y="2781360"/>
                <a:ext cx="433080" cy="3603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Rectangle 7"/>
              <p:cNvSpPr/>
              <p:nvPr/>
            </p:nvSpPr>
            <p:spPr>
              <a:xfrm>
                <a:off x="2771640" y="2421000"/>
                <a:ext cx="1512720" cy="360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1 кг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" name="Freeform 9"/>
            <p:cNvSpPr/>
            <p:nvPr/>
          </p:nvSpPr>
          <p:spPr>
            <a:xfrm>
              <a:off x="4284360" y="1989000"/>
              <a:ext cx="287280" cy="4320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12"/>
          <p:cNvGrpSpPr/>
          <p:nvPr/>
        </p:nvGrpSpPr>
        <p:grpSpPr>
          <a:xfrm>
            <a:off x="4572000" y="2421000"/>
            <a:ext cx="1512720" cy="720720"/>
            <a:chOff x="4572000" y="2421000"/>
            <a:chExt cx="1512720" cy="720720"/>
          </a:xfrm>
        </p:grpSpPr>
        <p:sp>
          <p:nvSpPr>
            <p:cNvPr id="170" name="Oval 13"/>
            <p:cNvSpPr/>
            <p:nvPr/>
          </p:nvSpPr>
          <p:spPr>
            <a:xfrm>
              <a:off x="4788000" y="2781360"/>
              <a:ext cx="433080" cy="360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5508720" y="2781360"/>
              <a:ext cx="433080" cy="360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15"/>
            <p:cNvSpPr/>
            <p:nvPr/>
          </p:nvSpPr>
          <p:spPr>
            <a:xfrm>
              <a:off x="4572000" y="2421000"/>
              <a:ext cx="151272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1 к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Rectangle 18"/>
          <p:cNvSpPr/>
          <p:nvPr/>
        </p:nvSpPr>
        <p:spPr>
          <a:xfrm>
            <a:off x="900000" y="3500280"/>
            <a:ext cx="7058160" cy="432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пульс двух  тележек = 0, т.к. их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4284720" y="234936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Group 27"/>
          <p:cNvGrpSpPr/>
          <p:nvPr/>
        </p:nvGrpSpPr>
        <p:grpSpPr>
          <a:xfrm>
            <a:off x="468360" y="4292640"/>
            <a:ext cx="8209080" cy="1727280"/>
            <a:chOff x="468360" y="4292640"/>
            <a:chExt cx="8209080" cy="1727280"/>
          </a:xfrm>
        </p:grpSpPr>
        <p:sp>
          <p:nvSpPr>
            <p:cNvPr id="176" name="Rectangle 21"/>
            <p:cNvSpPr/>
            <p:nvPr/>
          </p:nvSpPr>
          <p:spPr>
            <a:xfrm>
              <a:off x="468360" y="4292640"/>
              <a:ext cx="8209080" cy="1727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После взаимодействия: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=-P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т.к. они движутся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в разные стороны и с одинаковыми скоростями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истемы </a:t>
              </a:r>
              <a:r>
                <a:rPr b="0" lang="ru-RU" sz="36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P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P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= 0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22"/>
            <p:cNvSpPr/>
            <p:nvPr/>
          </p:nvSpPr>
          <p:spPr>
            <a:xfrm>
              <a:off x="2845080" y="544536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4356360" y="4437000"/>
              <a:ext cx="28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5148360" y="443700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4500720" y="544536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26"/>
            <p:cNvSpPr/>
            <p:nvPr/>
          </p:nvSpPr>
          <p:spPr>
            <a:xfrm>
              <a:off x="5148360" y="544536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46821E-006 L -1.38889E-006 0.10474 E">
                                      <p:cBhvr>
                                        <p:cTn id="111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6185E-006 L -0.5158 -1.6185E-006 E">
                                      <p:cBhvr>
                                        <p:cTn id="113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2948E-006 L 0.57101 3.2948E-006 E">
                                      <p:cBhvr>
                                        <p:cTn id="115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скорость лёгкой тележки после разрезания нити удерживающей упругую пластинку, если скорость тяжёлой тележки оказалась равной 1 м/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2411280" y="1916280"/>
            <a:ext cx="1800000" cy="1151640"/>
            <a:chOff x="2411280" y="1916280"/>
            <a:chExt cx="1800000" cy="1151640"/>
          </a:xfrm>
        </p:grpSpPr>
        <p:grpSp>
          <p:nvGrpSpPr>
            <p:cNvPr id="184" name="Group 5"/>
            <p:cNvGrpSpPr/>
            <p:nvPr/>
          </p:nvGrpSpPr>
          <p:grpSpPr>
            <a:xfrm>
              <a:off x="2411280" y="2347920"/>
              <a:ext cx="1512720" cy="720000"/>
              <a:chOff x="2411280" y="2347920"/>
              <a:chExt cx="1512720" cy="720000"/>
            </a:xfrm>
          </p:grpSpPr>
          <p:sp>
            <p:nvSpPr>
              <p:cNvPr id="185" name="Oval 6"/>
              <p:cNvSpPr/>
              <p:nvPr/>
            </p:nvSpPr>
            <p:spPr>
              <a:xfrm>
                <a:off x="2627280" y="2707920"/>
                <a:ext cx="433080" cy="3600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Oval 7"/>
              <p:cNvSpPr/>
              <p:nvPr/>
            </p:nvSpPr>
            <p:spPr>
              <a:xfrm>
                <a:off x="3348000" y="2707920"/>
                <a:ext cx="433080" cy="3600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Rectangle 8"/>
              <p:cNvSpPr/>
              <p:nvPr/>
            </p:nvSpPr>
            <p:spPr>
              <a:xfrm>
                <a:off x="2411280" y="2347920"/>
                <a:ext cx="1512720" cy="360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</a:rPr>
                  <a:t>3 кг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Freeform 9"/>
            <p:cNvSpPr/>
            <p:nvPr/>
          </p:nvSpPr>
          <p:spPr>
            <a:xfrm>
              <a:off x="3924000" y="1916280"/>
              <a:ext cx="287280" cy="431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Group 10"/>
          <p:cNvGrpSpPr/>
          <p:nvPr/>
        </p:nvGrpSpPr>
        <p:grpSpPr>
          <a:xfrm>
            <a:off x="4211640" y="2349360"/>
            <a:ext cx="1512720" cy="720720"/>
            <a:chOff x="4211640" y="2349360"/>
            <a:chExt cx="1512720" cy="720720"/>
          </a:xfrm>
        </p:grpSpPr>
        <p:sp>
          <p:nvSpPr>
            <p:cNvPr id="190" name="Oval 11"/>
            <p:cNvSpPr/>
            <p:nvPr/>
          </p:nvSpPr>
          <p:spPr>
            <a:xfrm>
              <a:off x="4427640" y="2709720"/>
              <a:ext cx="433080" cy="360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12"/>
            <p:cNvSpPr/>
            <p:nvPr/>
          </p:nvSpPr>
          <p:spPr>
            <a:xfrm>
              <a:off x="5148360" y="2709720"/>
              <a:ext cx="433080" cy="360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13"/>
            <p:cNvSpPr/>
            <p:nvPr/>
          </p:nvSpPr>
          <p:spPr>
            <a:xfrm>
              <a:off x="4211640" y="2349360"/>
              <a:ext cx="1512720" cy="36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1 к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Line 14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3924360" y="234936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7740720" y="1916280"/>
            <a:ext cx="1008000" cy="477720"/>
          </a:xfrm>
          <a:prstGeom prst="rect">
            <a:avLst/>
          </a:prstGeom>
          <a:solidFill>
            <a:srgbClr val="cccc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м/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24"/>
          <p:cNvGrpSpPr/>
          <p:nvPr/>
        </p:nvGrpSpPr>
        <p:grpSpPr>
          <a:xfrm>
            <a:off x="179280" y="3138480"/>
            <a:ext cx="8353440" cy="3719520"/>
            <a:chOff x="179280" y="3138480"/>
            <a:chExt cx="8353440" cy="3719520"/>
          </a:xfrm>
        </p:grpSpPr>
        <p:pic>
          <p:nvPicPr>
            <p:cNvPr id="197" name="Picture 22" descr="1"/>
            <p:cNvPicPr/>
            <p:nvPr/>
          </p:nvPicPr>
          <p:blipFill>
            <a:blip r:embed="rId1"/>
            <a:stretch/>
          </p:blipFill>
          <p:spPr>
            <a:xfrm>
              <a:off x="179280" y="3138480"/>
              <a:ext cx="4824360" cy="37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23"/>
            <p:cNvSpPr/>
            <p:nvPr/>
          </p:nvSpPr>
          <p:spPr>
            <a:xfrm>
              <a:off x="5219640" y="3789360"/>
              <a:ext cx="3313080" cy="2592360"/>
            </a:xfrm>
            <a:prstGeom prst="rect">
              <a:avLst/>
            </a:prstGeom>
            <a:noFill/>
            <a:ln w="9360">
              <a:solidFill>
                <a:srgbClr val="bb5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Почему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современные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пушки делают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такими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тяжёлыми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1.79191E-006 L 0.00798 0.10474 E">
                                      <p:cBhvr>
                                        <p:cTn id="137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6185E-006 L -0.5158 -1.6185E-006 E">
                                      <p:cBhvr>
                                        <p:cTn id="139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1.96532E-006 L 0.56719 -1.96532E-006 E">
                                      <p:cBhvr>
                                        <p:cTn id="14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 автомата Калашникова 4 кг, а масса пули 4 г. Скорость пули после выстрела 800 м/с. Какова скорость отдачи автомата, после одиночного выстрела, если его движению ни что не мешает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7" descr="Автомат калашникова"/>
          <p:cNvPicPr/>
          <p:nvPr/>
        </p:nvPicPr>
        <p:blipFill>
          <a:blip r:embed="rId1"/>
          <a:stretch/>
        </p:blipFill>
        <p:spPr>
          <a:xfrm>
            <a:off x="826920" y="1773360"/>
            <a:ext cx="5667480" cy="1733400"/>
          </a:xfrm>
          <a:prstGeom prst="rect">
            <a:avLst/>
          </a:prstGeom>
          <a:ln w="0">
            <a:noFill/>
          </a:ln>
        </p:spPr>
      </p:pic>
      <p:sp>
        <p:nvSpPr>
          <p:cNvPr id="201" name="Oval 8"/>
          <p:cNvSpPr/>
          <p:nvPr/>
        </p:nvSpPr>
        <p:spPr>
          <a:xfrm>
            <a:off x="6443640" y="2133720"/>
            <a:ext cx="73080" cy="71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7236000" y="2276640"/>
            <a:ext cx="1368360" cy="57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0,8 м/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324000" y="3716280"/>
            <a:ext cx="8569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ва будет скорость отдачи автомата, если будут выпуще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30 пуль из магазина автомата за доли секунды, пр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ении остальных условий? Почему в реальных услов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ат не движется с такой скоростью отдач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6227640" y="5373720"/>
            <a:ext cx="1224000" cy="576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4 м/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5723E-006 L -0.08941 -0.00046 E">
                                      <p:cBhvr>
                                        <p:cTn id="155" dur="5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63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4971E-006 L 0.41337 -0.00509 E">
                                      <p:cBhvr>
                                        <p:cTn id="157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Царь пушка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000" y="5589720"/>
            <a:ext cx="73436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арь пушка имеет массу 40 т, а масса каждого снаряда 100 кг. Какова скорость вылета снаряда из пушки, если скорость отдачи самой пушки 0,2 м/с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451640" y="3933720"/>
            <a:ext cx="1297080" cy="576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0 м/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5" descr="bd13756_"/>
          <p:cNvPicPr/>
          <p:nvPr/>
        </p:nvPicPr>
        <p:blipFill>
          <a:blip r:embed="rId1"/>
          <a:stretch/>
        </p:blipFill>
        <p:spPr>
          <a:xfrm>
            <a:off x="3059280" y="3284640"/>
            <a:ext cx="1050840" cy="163656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8"/>
          <p:cNvGrpSpPr/>
          <p:nvPr/>
        </p:nvGrpSpPr>
        <p:grpSpPr>
          <a:xfrm>
            <a:off x="3203640" y="4869000"/>
            <a:ext cx="4753080" cy="432720"/>
            <a:chOff x="3203640" y="4869000"/>
            <a:chExt cx="4753080" cy="432720"/>
          </a:xfrm>
        </p:grpSpPr>
        <p:sp>
          <p:nvSpPr>
            <p:cNvPr id="210" name="Rectangle 14"/>
            <p:cNvSpPr/>
            <p:nvPr/>
          </p:nvSpPr>
          <p:spPr>
            <a:xfrm>
              <a:off x="3203640" y="4869000"/>
              <a:ext cx="4753080" cy="144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Oval 16"/>
            <p:cNvSpPr/>
            <p:nvPr/>
          </p:nvSpPr>
          <p:spPr>
            <a:xfrm>
              <a:off x="3348000" y="5013360"/>
              <a:ext cx="287280" cy="286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Oval 17"/>
            <p:cNvSpPr/>
            <p:nvPr/>
          </p:nvSpPr>
          <p:spPr>
            <a:xfrm>
              <a:off x="7451640" y="5013360"/>
              <a:ext cx="289080" cy="288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5545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еактивное движение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вижение, возникающее за счёт отделения от тела какой то его ча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684360" y="1989000"/>
            <a:ext cx="3744360" cy="1368360"/>
            <a:chOff x="684360" y="1989000"/>
            <a:chExt cx="3744360" cy="1368360"/>
          </a:xfrm>
        </p:grpSpPr>
        <p:pic>
          <p:nvPicPr>
            <p:cNvPr id="216" name="Picture 4" descr="ag00418_"/>
            <p:cNvPicPr/>
            <p:nvPr/>
          </p:nvPicPr>
          <p:blipFill>
            <a:blip r:embed="rId2"/>
            <a:stretch/>
          </p:blipFill>
          <p:spPr>
            <a:xfrm>
              <a:off x="684360" y="1989000"/>
              <a:ext cx="31492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Freeform 6"/>
            <p:cNvSpPr/>
            <p:nvPr/>
          </p:nvSpPr>
          <p:spPr>
            <a:xfrm>
              <a:off x="2124000" y="2925720"/>
              <a:ext cx="2304720" cy="431640"/>
            </a:xfrm>
            <a:prstGeom prst="pie">
              <a:avLst/>
            </a:prstGeom>
            <a:solidFill>
              <a:srgbClr val="99ff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Freeform 11"/>
          <p:cNvSpPr/>
          <p:nvPr/>
        </p:nvSpPr>
        <p:spPr>
          <a:xfrm>
            <a:off x="34920" y="3117960"/>
            <a:ext cx="9145440" cy="3934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12" descr="j0095737"/>
          <p:cNvPicPr/>
          <p:nvPr/>
        </p:nvPicPr>
        <p:blipFill>
          <a:blip r:embed="rId3"/>
          <a:stretch/>
        </p:blipFill>
        <p:spPr>
          <a:xfrm>
            <a:off x="-2700360" y="6597720"/>
            <a:ext cx="30243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path" presetID="63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88889E-006 -4.16185E-006 L 0.8033 -0.00531 E">
                                      <p:cBhvr>
                                        <p:cTn id="181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56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58382E-006 L 1.28351 -1.14336 E">
                                      <p:cBhvr>
                                        <p:cTn id="18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96532E-006 L -0.18107 1.96532E-006 E">
                                      <p:cBhvr>
                                        <p:cTn id="193" dur="5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526E-006 L 0.6908 -0.0037 E">
                                      <p:cBhvr>
                                        <p:cTn id="195" dur="5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8:00:07Z</dcterms:created>
  <dc:creator>USER</dc:creator>
  <dc:description/>
  <dc:language>en-US</dc:language>
  <cp:lastModifiedBy>уч1</cp:lastModifiedBy>
  <dcterms:modified xsi:type="dcterms:W3CDTF">2009-04-20T10:10:58Z</dcterms:modified>
  <cp:revision>36</cp:revision>
  <dc:subject/>
  <dc:title>Импульс тела</dc:title>
</cp:coreProperties>
</file>